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D7D-3D03-48AA-96C8-19C2A09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EB1-7B7C-4344-B90B-1D095533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EAC7-280B-4C50-8E1B-86185860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FE656-C234-41D9-A3C9-12F555F8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51D87-05B3-4EA9-826E-7CE45620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18B28-55E1-45CD-9E7E-A8F6922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0C781-102A-40DF-B433-84036ED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EA620-7DCF-4058-BBCA-4829379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3CC8F-87CF-4F14-B672-8D9DD9B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C3616-CCBB-4498-9B90-865C1A46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BBD0D-CECA-452F-87A1-9B0206E5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85CE8-9543-4555-937A-75DA86D1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748-D1CF-4E87-B49F-41469750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7EF26-40C4-4E87-AE0B-4BC34792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BD98C-BFB8-4D84-84BB-745A3CD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0C644-9A09-47E2-866E-CBCCFD9C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D6443-9083-4A7D-8865-A2B8F6B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4D63-8672-4670-B2FE-99B86882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5E16B-9764-4567-8A26-3E3CE33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C37C7-F191-423E-9980-A12E6B73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A7B82-3A83-4D45-BF79-DEA60ECA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1F856-F14F-4556-ADBF-3B5349F9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8A85D-72F1-42B5-9CFF-061C5404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F79-86E7-46A3-BAA6-99523EB3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F93F5-B0B5-4B56-8289-9C57B9A8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DA674-31CF-4903-A76D-462B2D3B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777B7-E2FC-4949-98F7-300C1BA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CF011-DA47-4705-B106-34325043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03CA7-8DC8-4C5C-8D2E-0F382EFE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AAC7F-6DF9-433A-A094-7849A11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A6F14-950C-482B-9441-099BC91D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51088-2DE7-4617-992D-423DE27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A6FA4-73DD-4EDD-B956-483DD216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8ADE9-98CD-44CB-8F9D-8E098AF8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D4EF-B6FE-43AF-A4E0-D794773B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24904-8AF9-4668-B775-2C57A74A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894C9-E771-492A-A2DF-3BB47B07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9E941-A1D2-41C7-B1A4-AB861AFE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148D8-A72B-49E4-8046-E5239929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F103F-28C5-4EE9-90AC-46F8FA79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31E69-C7A8-47CE-91A5-3046FE59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F516A-F870-4CEF-B5E3-BEE323A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EE62A-6B60-4B01-B5F2-BD09CC5F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57130-0CAD-42AA-A4FC-30C3B249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40D3E-DB7F-49E0-924D-329360D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A296-EA57-4F72-B540-C5ED26BD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16D73-F09E-47B9-86A2-3B932712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C8110-6837-414E-BE39-5365BA9B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50E18-30AE-4BC0-96BB-13AB332E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733C3-BF25-400E-8859-F0055C52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D214A-30AB-4DF3-8D3A-491C56CE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13E4-25EB-4C17-9322-1B6FD935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2E04-C6D1-4B03-BA74-06DAE1DC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85CC-77B2-499A-81DD-F6F37019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181-E0DE-41E2-A7C7-2FCBB33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6480-CB92-4BB9-A57D-269F24D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E2F-46F9-489F-BD40-6CF947FC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1294-8DA1-4011-9F1C-2A494EC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FB58-AD10-4D1B-A2D7-268446F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B364-B5E5-41F0-BBE6-2B3689C1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C60A-6C06-47D7-8CA9-9CD3D192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9AC6-99CD-4D49-A31F-7D946727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380D-2913-4AC1-9299-327E26B9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8FC49-6927-45AF-8301-B4F6B8E3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F503-01DA-41DB-ABEE-A13CFC58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235B-3FBA-4835-BD04-5F9D29C7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6839-288F-428F-8613-180247F5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E4E-8B7C-43CD-A4CE-99722A4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4B69-5A95-4486-B9FD-97B509D6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B913-FE90-4AF1-B479-84CC1F44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42C6-2373-468A-A8F3-5D848DD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F4C7-F315-45F6-89E0-0EC82245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2F52-E754-49A9-AB46-22865C45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9FBF-EBD8-48C9-AC3A-275BA1AB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070F-0011-472B-82D0-2595278D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6981-6529-4F9B-B70A-C1D33752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B8F4-CA05-4920-A741-47907C86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52A9-A6BA-401A-A87E-26E2CF1E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D7A-977E-40E1-8007-077061D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3899-D14A-4233-847E-BD750983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D0B4-0D39-4272-8E8D-0FDF1FD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47B5-5604-4DA1-99F8-6793A1E6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FFD2-0BB9-4D7B-8888-E337C94A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ED68-B71D-4513-AA95-20C2C84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0B23-516B-4BB9-B531-180CDF0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B2BE-147F-4822-9BB8-83A57E64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7646F-CE22-42B5-8D0C-3CD3FD94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1D50-6FAF-41B4-BFE1-4C49497E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8039-EC25-44B2-AA76-BB20AC18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BF5-B9D4-45D4-928B-0319DA97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4A1C-E088-4E05-9BC1-5D210257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B8D4F-9D22-490F-9474-6E8A23A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61789-A55E-4D0A-AA7B-A8EB036E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FF74-C26D-47A6-AAC1-69D23647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9908-86B0-485A-822D-921B4C23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9683-BD01-452A-877C-1832B30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DD025-C54D-47FB-9A35-E03F3D38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49F32-2F23-428A-9C9C-6498A612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5975-1F61-4C9C-9E6C-E2579A9A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2652-8146-4276-AF5D-B1ECECDB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CC9-966F-4E94-A184-3C3E9A61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D439-F925-42DF-A5F2-A80D2680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8157-CE77-4BEC-B82A-DB6E259A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1411-C5B9-4079-82A5-495380F3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B199-6CD8-40A5-8F7F-2EB4B013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FD7CC-F4E5-4291-AC2B-1F6B7BC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2292-D1AD-4482-BCF6-F4062B6E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C718C-1982-4BE5-8D75-2117C938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D7A0-E7CA-439E-8517-3795D041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63675-D82E-4E40-A85C-E182D46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9C8B-14E6-4A20-9E48-C6B7E248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069-5502-4566-A395-FC3E042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508F-7306-4A16-8EB1-10907C70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BDB61-98C5-49A6-8EF3-FE0D2CAC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E49D1-2572-438F-B511-5638AED0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CE43F-1864-4D05-8158-450A7BEA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13094-2E75-4DEB-A24E-7E01BEF1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C9903-44AB-41BD-A289-27148E49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9D1A0-3BC6-48A8-9F89-835D47D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9B29D-3545-4F85-B770-6AA4DFB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481BC-8082-4F20-9879-DDDCD5A7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7CC6-8E03-4EA4-8E21-A2C3FE3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361-47B0-4F48-BFC6-9B669F5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DAEB3-64F4-4F6E-9433-422B24C9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39AB5-7A56-4327-8CCA-36ED0CB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9190E-7AC9-402A-978D-9E57687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8AC6-4F50-43A4-889C-8B46496A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8A029-9B53-4BDC-9EF7-D10A6616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9C15D-9414-41CA-9AA1-CA0F820E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9EC99-F1CA-445C-95D6-64AACEC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ACCD8-39A2-404E-9736-A75F363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0E951-B59E-4195-8340-F7D3BF1D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423A-E88A-476F-88B9-E51C4FF1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8DA-293E-4923-B5C3-9BCECD5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E96B0-D8E6-466F-A499-EFE4B787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755E4-ED23-458F-87D0-C7C0A96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3F07-00F8-49C9-9257-8B08BD5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0A71F-4430-48A1-A942-7ABC023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D471-0DBB-4612-A1F7-83E916A0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F1EA2-6217-4896-9941-83A50D56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CCE7F-D756-4B80-A1A5-643ABA3C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A82C9-9C8B-48A7-8D43-FFE805E9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B6DAC-24ED-4ADE-B138-09A8B37E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546B9-96ED-4064-A984-2E3A99B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5ED7-CF03-49E3-B11E-DA0B79C339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C068-AF18-4C9D-B647-7333656A328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78A7-0747-48DA-A6E6-BB79D6423C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1736-CC11-4060-814D-4FE91FD9E4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F08-C4CE-4A3D-85D7-DE0AD7010A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9B7-3086-4D6D-B322-6011D1197A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9968-9385-4701-8A5C-C80E24226D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06C-0746-436B-B1BD-F14ACDB7DA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4C3-368B-4AE8-A76C-F2895C8ADA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B5E4-3904-4711-A1B8-31188E9E68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BE4B-267C-415F-A985-698FF1DD52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AAAB-8088-4DE4-B19E-44A7AEEE8A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5 V mysli rád zaliet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ma neopu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aj kríž dopu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o sa vždy spoľahnú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sebou cieľ svoj zr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odvahou kráčať vpre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kríž niesť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atočne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ova krv tiek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enie prinies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záchranu iba v nej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pásnu moc veri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mňa Pán trpel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raz večný život mi 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ého m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mysli rád zaliet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de môj drahý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sa obet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horký kalich 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ma vykú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za mňa život svoj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ou kríž skrop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 je docen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neprijal najväčší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ohí ho zavrh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ou opovrh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re nich nič neznam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56:00Z</dcterms:modified>
  <cp:revision>21</cp:revision>
  <dc:subject/>
  <dc:title>Je veľký náš Pán, on slávy je Kráľ Nech do všetkých strán  spev vrúcnych znie chvál.</dc:title>
</cp:coreProperties>
</file>